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A82C-DC55-4820-83AA-2BEF939D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F87-B83F-4A73-B6C4-DFA2CF56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341-68CB-4FBB-8BEF-52C7B817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693-CFF1-463B-ADCC-9C53E56B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99CD-F5E2-46F1-901E-F0B9030B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7B28-C280-41A5-B882-81C0816C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F0FF-60F3-4537-AADE-6707872E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3C3D-2D2B-4DBB-B80A-69082256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545C-513B-4E22-B855-DA389697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8F03-AFC0-438C-84B0-A6E0FC57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05A2-5C01-4380-B6CC-1F12757C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465-9D34-4170-8BE1-A09A28B1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E096-3F73-4587-A8C3-9D3B9E66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79C2-F729-470E-9617-010CBDF3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9A2E-9ED8-4184-BE2C-956F5E71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0468-FE41-4862-A387-EF146351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CA5B-45C9-4086-8171-9DF787B6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417CA-6C59-41BA-AAD8-07CD7368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F462D-6CA9-4D20-8344-073CCA42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488F3-4A27-429D-A2FF-90191D9B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C268D-0672-450F-B031-9B9C1A38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B5848-5425-417A-88F4-C8707461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5EB-0EA8-4565-87D5-1B3987C8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14230-AAC7-49AA-BE2D-492F608B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8CEED-1616-483D-9739-BEAC84F9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728BA-D641-4715-834F-44AAF99A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51FA-4921-4144-BFA8-5CE4C72B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1D66-88C2-43AC-B08F-3CD29124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235D2-64BC-4A0E-9D3C-D95940D1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B01C4-635A-43DF-9EC5-FE97E462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20728-C6C4-47D7-81F2-61466769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FFF54-54AE-423E-897E-24FE5601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D0243-AF7F-4C18-B1D8-C74FF85E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433-0D84-4BCA-8903-77359F16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9768-5D7F-4BD1-8D67-99452B35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65B6C-8E28-4129-B4ED-D97B7F8C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606BC-99F2-4C84-AE3A-2DAE8ED8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E8F19-544E-4F0F-9582-FC763176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B5DF4-4629-42E7-B641-4AEB6B66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44837-5F66-4997-8D36-600D4C92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F0436-D136-4C0D-BF32-6B0A1CC6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F1B21-553C-40DA-AF3F-686778D4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D3401-879E-4641-AA97-75BA545D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1B586-B6DE-4022-B73F-77AD49A4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24C-9C99-4652-98A8-6968CE75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58BEB-CA37-4E11-B04F-4C9E9AC7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46AB5-79B4-42FA-89C4-D7F80DBD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6E7AC-7DAD-462D-9D6C-6791CEA9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1BE21-0EF5-413C-9790-309AF57A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07D38-87B1-40DE-9D30-087D7D02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58CA2-B335-47D1-AC85-3EC16B11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CFF55-F371-4D54-886B-55DAF9DB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5AB34-567A-4920-A88E-418F5B30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C0F87-01FE-4CC1-8605-A7C413DC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18912-2708-46C5-B2DB-70A3FD01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4CA5-0C29-46C9-AF7D-861E08FF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E0E52-9A54-49F8-96C3-0961F264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509AE-1F02-477A-9C6E-3FA12CEB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78AD6-B869-4DAD-9C73-2EF37555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077F7-7258-4933-BDA0-C57F82CA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9E7EA-B0C8-4D55-8E0B-1595FDB1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0EF52-47B7-4C19-BC9E-932F3038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51DBA-8448-4F5E-8A3B-49D89C83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FD37E-1BF0-462F-8869-C23FFFAB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16C31-658B-43E6-81D6-A37C896B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F9C0E-081D-4131-B34A-5BEF28D5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1F1-A3FA-48F2-9354-068FEEC9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8BD88-9DDC-4C01-B447-629A0F8A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B819E-22FC-46E3-812A-92ABEF22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F7129-A6C2-4396-A230-188B9EF8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F9CCD-6011-4CCE-B171-593FA89A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C227C-BCBA-4D1C-92C9-29E1A030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558A1-37F9-417F-AB57-A19D4E51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7D684-CC8D-4E93-8F3C-F83ECD2C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76AC9-C38A-48EB-9AD9-160137C3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0780E-643D-4131-A81C-4B3AB60F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B3781-D5B5-4A67-8557-8676B72B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AE3-1EC7-4979-8026-F92D3D00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2E514-C296-47F3-B7F5-E631FE77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EE830-5F08-445D-864C-59215A0A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5F023-87E3-4A70-AA0E-00E53851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C4713-577A-466C-AE30-F1EE7A8F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DB8CD-99A8-4797-8C16-EF75047C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F5D24-2D61-4D2F-9448-9E56F67C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038C6-AF73-48A9-B03B-BF26A468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4E702-BD30-49C3-88E4-E608E1FF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C6943-67FC-46CD-A165-1E0578ED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D7F58-5974-441D-9D5B-3F6B4C34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2D4-0F8E-4839-8AD8-88869F67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5A349-26FF-4DB9-A8FA-10436885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E4EFE-EE61-47CC-A417-932214E5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1ED9E-83AE-4C0D-A176-F82787C2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23AE4-05F8-4105-A44C-DE01EADD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48048-C79C-44FF-8BDD-F73819CC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E339D-2569-4E57-9B46-DD781B33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25908-6FB1-46D1-9BB8-A69BDFBC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1E3C-C84F-4761-A206-6598D94045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F52B-2D55-487B-A289-8E57BD79ED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D3F5-1A3B-425B-85CF-C3FA9A870A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8CC4-7CFA-4917-9219-F175F3C485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22BF-B798-4D66-BAE7-CED2C1F080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C6AD-F6DB-443E-9C13-3DE8257A66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9F2E-BFB4-4E70-9370-C1339072F1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D017-CA2B-46FC-A99F-9A82112669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3.org/TR/CSS2/fonts.html#generic-font-families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3schools.com/css/css_boxmodel.asp" TargetMode="External"/><Relationship Id="rId2" Type="http://schemas.openxmlformats.org/officeDocument/2006/relationships/hyperlink" Target="http://www.brainjar.com/css/positioning/" TargetMode="External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78880" cy="185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5335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he &lt;div&gt; tag is especially useful when you bear in mind the CSS box mod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-5335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Being able to wrap a bundle of elements in a &lt;div&gt; tags allows us to ‘box up’ whole sections of the pag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-5335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Note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Don’t forget that, in HTML tags are </a:t>
            </a:r>
            <a:r>
              <a:rPr b="1" lang="en-IE" sz="2000" spc="-1" strike="noStrike">
                <a:solidFill>
                  <a:srgbClr val="000000"/>
                </a:solidFill>
                <a:latin typeface="Lucida Sans Unicode"/>
              </a:rPr>
              <a:t>nest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7373"/>
                </a:solidFill>
                <a:latin typeface="Wingdings"/>
                <a:ea typeface="Wingdings"/>
              </a:rPr>
              <a:t></a:t>
            </a:r>
            <a:r>
              <a:rPr b="0" lang="en-IE" sz="2000" spc="-1" strike="noStrike">
                <a:solidFill>
                  <a:srgbClr val="007373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his means that this is legal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&lt;div&gt; &lt;p&gt;&lt;/p&gt;&lt;/div&gt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But this is not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&lt;div&gt;&lt;p&gt;&lt;/div&gt;&lt;/p&gt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-6480" y="27468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Using CSS, you can set a number of properties in an element’s bord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he Border Sty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his can be dotted, dashed, solid, double, groove, ridge, inset or outset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e.g. 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border-style: solid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Border Col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his can be any colour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e.g. 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border-color: #ff0000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Collapsing Bord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You can also specify no border properties at all using the border-collapse property 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e.g. 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border-collapse:collapse</a:t>
            </a:r>
            <a:r>
              <a:rPr b="0" i="1" lang="en-IE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-6480" y="27468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Individual sid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You can specify whether you want styles to apply to only the 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top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bottom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right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, or 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left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e.g. 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border-left-style: solid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border-top-color: #ff0000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It is also possible to specify all the border properties in one property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Do this using the shorthand 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bord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e.g. border:5px solid #ff0000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Note: when using shorthand, the order must = width-style-colou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-6480" y="27468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a6a6a6"/>
                </a:solidFill>
                <a:latin typeface="Lucida Sans Unicode"/>
              </a:rPr>
              <a:t>From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a6a6a6"/>
                </a:solidFill>
                <a:uFillTx/>
                <a:latin typeface="Lucida Sans Unicode"/>
              </a:rPr>
              <a:t>www.w3c.or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-6480" y="274680"/>
            <a:ext cx="8242560" cy="1152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rcRect l="27606" t="31668" r="27606" b="20556"/>
          <a:stretch/>
        </p:blipFill>
        <p:spPr>
          <a:xfrm>
            <a:off x="1571760" y="1785960"/>
            <a:ext cx="57862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a6a6a6"/>
                </a:solidFill>
                <a:latin typeface="Lucida Sans Unicode"/>
              </a:rPr>
              <a:t>From     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a6a6a6"/>
                </a:solidFill>
                <a:uFillTx/>
                <a:latin typeface="Lucida Sans Unicode"/>
              </a:rPr>
              <a:t>www.w3c.or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-6480" y="274680"/>
            <a:ext cx="8242560" cy="1152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2"/>
          <a:srcRect l="27606" t="41297" r="27606" b="12497"/>
          <a:stretch/>
        </p:blipFill>
        <p:spPr>
          <a:xfrm>
            <a:off x="1508040" y="1857240"/>
            <a:ext cx="587232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You can also draw an 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outline 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around elements, outside the border edge (this is effectively a second border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0" algn="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a6a6a6"/>
                </a:solidFill>
                <a:latin typeface="Lucida Sans Unicode"/>
              </a:rPr>
              <a:t>From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0" algn="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 u="sng">
                <a:solidFill>
                  <a:srgbClr val="a6a6a6"/>
                </a:solidFill>
                <a:uFillTx/>
                <a:latin typeface="Lucida Sans Unicode"/>
              </a:rPr>
              <a:t>www.w3c.or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-6480" y="274680"/>
            <a:ext cx="8242560" cy="1152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"/>
          <p:cNvPicPr/>
          <p:nvPr/>
        </p:nvPicPr>
        <p:blipFill>
          <a:blip r:embed="rId2"/>
          <a:srcRect l="27606" t="29169" r="27606" b="26666"/>
          <a:stretch/>
        </p:blipFill>
        <p:spPr>
          <a:xfrm>
            <a:off x="1785960" y="2556000"/>
            <a:ext cx="53578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Consider the following co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&lt;style type="text/css"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body { background-color:rgb(210, 210, 155);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h1 { color:rgb(40, 40, 75); }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p { text-indent: 20px; }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div { border-style: ridge; text-align: center; height: 250px;}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span { border-style:dotted; }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&lt;/styl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&lt;div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&lt;h1&gt; Our page &lt;/h1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&lt;span&gt;We'll use this to try out some CSS&lt;/span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&lt;/div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Lucida Sans Unicode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880" indent="0" algn="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-6480" y="27468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he CSS background properties define the background effects of an element. This includes the ability t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control the background colour of an ele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set an image as the backgroun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repeat a background image vertically or horizontall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position an image on a pag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CSS background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propert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"/>
          <p:cNvPicPr/>
          <p:nvPr/>
        </p:nvPicPr>
        <p:blipFill>
          <a:blip r:embed="rId2"/>
          <a:srcRect l="15314" t="27692" r="36146" b="12908"/>
          <a:stretch/>
        </p:blipFill>
        <p:spPr>
          <a:xfrm>
            <a:off x="3857760" y="1643040"/>
            <a:ext cx="4500360" cy="41306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2286000" y="52117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aken from w3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o set a background colour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Lucida Sans Unicode"/>
              </a:rPr>
              <a:t>body {background-color: yellow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o set an image as a background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1600" spc="-1" strike="noStrike">
                <a:solidFill>
                  <a:srgbClr val="007373"/>
                </a:solidFill>
                <a:latin typeface="Lucida Sans Unicode"/>
              </a:rPr>
              <a:t> </a:t>
            </a:r>
            <a:r>
              <a:rPr b="0" lang="en-IE" sz="1600" spc="-1" strike="noStrike">
                <a:solidFill>
                  <a:srgbClr val="007373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body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background-image: url(‘image.jpg'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o set an image repeated as a background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1600" spc="-1" strike="noStrike">
                <a:solidFill>
                  <a:srgbClr val="007373"/>
                </a:solidFill>
                <a:latin typeface="Lucida Sans Unicode"/>
              </a:rPr>
              <a:t> </a:t>
            </a:r>
            <a:r>
              <a:rPr b="0" lang="en-IE" sz="1600" spc="-1" strike="noStrike">
                <a:solidFill>
                  <a:srgbClr val="007373"/>
                </a:solidFill>
                <a:latin typeface="Wingdings"/>
                <a:ea typeface="Wingdings"/>
              </a:rPr>
              <a:t></a:t>
            </a:r>
            <a:r>
              <a:rPr b="0" lang="en-IE" sz="1600" spc="-1" strike="noStrike">
                <a:solidFill>
                  <a:srgbClr val="007373"/>
                </a:solidFill>
                <a:latin typeface="Lucida Sans Unicode"/>
              </a:rPr>
              <a:t> </a:t>
            </a:r>
            <a:r>
              <a:rPr b="0" lang="en-IE" sz="1600" spc="-1" strike="noStrike">
                <a:solidFill>
                  <a:srgbClr val="007373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body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background-image: url(‘image.jpg'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background-repeat: repeat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Conceptualising a Websit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The CSS box mod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CSS borders and outlin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CSS fo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Exercise with CS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he CSS text properties allow you to control the appearance of text. This means you ca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change the colour of a text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increase or decrease the space between characters in a text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align a text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decorate a tex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indent the first line in a section of tex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Among other things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ext properties in CS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4"/>
          <p:cNvSpPr/>
          <p:nvPr/>
        </p:nvSpPr>
        <p:spPr>
          <a:xfrm>
            <a:off x="2428920" y="5783400"/>
            <a:ext cx="185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aken from w3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2"/>
          <a:srcRect l="14572" t="17579" r="37013" b="7697"/>
          <a:stretch/>
        </p:blipFill>
        <p:spPr>
          <a:xfrm>
            <a:off x="4286160" y="1633680"/>
            <a:ext cx="41436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o set the text colour for h1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IE" sz="1600" spc="-1" strike="noStrike">
                <a:solidFill>
                  <a:srgbClr val="000000"/>
                </a:solidFill>
                <a:latin typeface="Lucida Sans Unicode"/>
              </a:rPr>
              <a:t>h1 { color: #00ff00; 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o align the text in paragraph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1600" spc="-1" strike="noStrike">
                <a:solidFill>
                  <a:srgbClr val="007373"/>
                </a:solidFill>
                <a:latin typeface="Lucida Sans Unicode"/>
              </a:rPr>
              <a:t> </a:t>
            </a:r>
            <a:r>
              <a:rPr b="0" lang="en-IE" sz="1600" spc="-1" strike="noStrike">
                <a:solidFill>
                  <a:srgbClr val="007373"/>
                </a:solidFill>
                <a:latin typeface="Lucida Sans Unicode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IE" sz="1600" spc="-1" strike="noStrike">
                <a:solidFill>
                  <a:srgbClr val="000000"/>
                </a:solidFill>
                <a:latin typeface="Lucida Sans Unicode"/>
              </a:rPr>
              <a:t>p { text-indent: 50px; 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o set the letter spacing across the pag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1600" spc="-1" strike="noStrike">
                <a:solidFill>
                  <a:srgbClr val="007373"/>
                </a:solidFill>
                <a:latin typeface="Lucida Sans Unicode"/>
              </a:rPr>
              <a:t> </a:t>
            </a:r>
            <a:r>
              <a:rPr b="0" lang="en-IE" sz="1600" spc="-1" strike="noStrike">
                <a:solidFill>
                  <a:srgbClr val="007373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body { letter-spacing: 2px; } 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528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CSS font famil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24120" indent="-52812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here are a huge number of font famil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24120" indent="-52812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Generally, these can be divided into serif and sans-serif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24120" indent="-52812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See </a:t>
            </a:r>
            <a:r>
              <a:rPr b="0" lang="en-IE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w3.org/TR/CSS2/fonts.html#generic-font-families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 for a lis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04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a6a6a6"/>
                </a:solidFill>
                <a:latin typeface="Lucida Sans Unicode"/>
              </a:rPr>
              <a:t>From     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6004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a6a6a6"/>
                </a:solidFill>
                <a:uFillTx/>
                <a:latin typeface="Lucida Sans Unicode"/>
              </a:rPr>
              <a:t>www.w3c.or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2"/>
          <a:stretch/>
        </p:blipFill>
        <p:spPr>
          <a:xfrm>
            <a:off x="-6480" y="274680"/>
            <a:ext cx="8242560" cy="1152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3"/>
          <a:srcRect l="11459" t="44169" r="55732" b="35833"/>
          <a:stretch/>
        </p:blipFill>
        <p:spPr>
          <a:xfrm>
            <a:off x="3643200" y="3643200"/>
            <a:ext cx="45007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5335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CSS font-style and font-weigh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-53352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hes is mostly used to specify 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italic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 or 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bold 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ext but can also set text as varia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e.g. 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font-style: italic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font-weight: bold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-5335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CSS font siz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-53352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his can be used to make text bigger/smaller than the defaul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e.g. 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font-size:120%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You can also use pixels 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(px) 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or the 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em 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size unit. The 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em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 unit is recommended by W3C but percentages work on pretty much every brows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-6480" y="27468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a6a6a6"/>
                </a:solidFill>
                <a:latin typeface="Lucida Sans Unicode"/>
              </a:rPr>
              <a:t>From     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a6a6a6"/>
                </a:solidFill>
                <a:uFillTx/>
                <a:latin typeface="Lucida Sans Unicode"/>
              </a:rPr>
              <a:t>www.w3c.or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-6480" y="274680"/>
            <a:ext cx="8242560" cy="115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"/>
          <p:cNvPicPr/>
          <p:nvPr/>
        </p:nvPicPr>
        <p:blipFill>
          <a:blip r:embed="rId2"/>
          <a:srcRect l="29688" t="18335" r="29688" b="5833"/>
          <a:stretch/>
        </p:blipFill>
        <p:spPr>
          <a:xfrm>
            <a:off x="2428920" y="1190520"/>
            <a:ext cx="44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Links and referen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w3schools.com/css/css_boxmodel.as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brainjar.com/css/positioning/</a:t>
            </a: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Rectangle 2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51444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We spoke previously about the importance of design, both from a navigational perspective and from an aesthetic perspecti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1444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1444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We also spoke about how a design is effective if it serves a purpose, i.e. is function-led, rather than technology-l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1444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1444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Thus, when we start designing we do NOT jump straight into coding up a pag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3196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Lucida Sans Unicode"/>
              </a:rPr>
              <a:t>We begin with a pen and paper or with a digital equivalent (this is sometimes called ‘wireframing’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50400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Begin by deciding what pages you feel you will need as part of your websit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0400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0400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hen decide how these pages can be grouped and what specific pages </a:t>
            </a:r>
            <a:r>
              <a:rPr b="0" lang="en-IE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must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 link to other specific pag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1504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Lucida Sans Unicode"/>
              </a:rPr>
              <a:t>This should form the basis for the navigation around your sit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0400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0400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Identify the group of pages likely to be of most interest to us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1504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Lucida Sans Unicode"/>
              </a:rPr>
              <a:t>This group may benefit from being placed within an ever-present navigation mechanism (typically a navigation bar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0400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Is there another group of pages likely to be of frequent interest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1504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Lucida Sans Unicode"/>
              </a:rPr>
              <a:t>If so, a second navigation ever-present navigation bar may be suitabl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1504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1504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50400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51444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Now you can begin conceptualising the layout of specific pag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1444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1444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How does the grouping of pages impact on how those pages should be structured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3196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Lucida Sans Unicode"/>
              </a:rPr>
              <a:t>We know pages early on in the navigation process should contain less information, while more specific pages can contain mor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3196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1900" spc="-1" strike="noStrike">
                <a:solidFill>
                  <a:srgbClr val="007373"/>
                </a:solidFill>
                <a:latin typeface="Wingdings"/>
                <a:ea typeface="Wingdings"/>
              </a:rPr>
              <a:t></a:t>
            </a:r>
            <a:r>
              <a:rPr b="0" lang="en-IE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1900" spc="-1" strike="noStrike">
                <a:solidFill>
                  <a:srgbClr val="000000"/>
                </a:solidFill>
                <a:latin typeface="Lucida Sans Unicode"/>
              </a:rPr>
              <a:t>Grouped pages should probably be structured to </a:t>
            </a:r>
            <a:r>
              <a:rPr b="0" lang="en-IE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1900" spc="-1" strike="noStrike">
                <a:solidFill>
                  <a:srgbClr val="000000"/>
                </a:solidFill>
                <a:latin typeface="Lucida Sans Unicode"/>
              </a:rPr>
              <a:t>contain about the same amount of content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3196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1444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3196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3196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51444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What parts of the structure can be repeated across all pages to reinforce 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Repeatability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 and unify the sit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1444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1444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What parts of the structure can be changed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1444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1444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From here, sketch out basic structures for your home page and any groups that you feel should share a struc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3196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Lucida Sans Unicode"/>
              </a:rPr>
              <a:t>These should usually be kept ‘low-fidelity’ at first, i.e. rough designs based on how the Webpage breaks down into ‘boxes’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1444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3196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Lucida Sans Unicode"/>
              </a:rPr>
              <a:t>Try and get this part of your own site planned out this week!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31960" indent="-4572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5335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TML elements can usually be thought of as box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000" spc="-1" strike="noStrike">
                <a:solidFill>
                  <a:srgbClr val="007373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this can help us make sense of their layo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-5335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The CSS box model contains 4 thing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-53352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Margi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-53352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Bord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-53352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-53352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a6a6a6"/>
                </a:solidFill>
                <a:latin typeface="Lucida Sans Unicode"/>
              </a:rPr>
              <a:t>From </a:t>
            </a:r>
            <a:r>
              <a:rPr b="0" i="1" lang="en-IE" sz="1400" spc="-1" strike="noStrike" u="sng">
                <a:solidFill>
                  <a:srgbClr val="a6a6a6"/>
                </a:solidFill>
                <a:uFillTx/>
                <a:latin typeface="Lucida Sans Unicode"/>
              </a:rPr>
              <a:t>www.w3c.or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-6480" y="274680"/>
            <a:ext cx="8242560" cy="1152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rcRect l="11979" t="22500" r="48438" b="43333"/>
          <a:stretch/>
        </p:blipFill>
        <p:spPr>
          <a:xfrm>
            <a:off x="3857760" y="3094200"/>
            <a:ext cx="48574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5335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When you set the width and height of an element, you are setting the width and height of the </a:t>
            </a:r>
            <a:r>
              <a:rPr b="1" lang="en-IE" sz="2000" spc="-1" strike="noStrike">
                <a:solidFill>
                  <a:srgbClr val="000000"/>
                </a:solidFill>
                <a:latin typeface="Lucida Sans Unicode"/>
              </a:rPr>
              <a:t>content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 are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-5335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he total width an element will take up on a page will b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= width + padding + border + margi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-5335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hese properties can usually be set as follow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p {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height:100px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width:250px;</a:t>
            </a:r>
            <a:br>
              <a:rPr sz="1800"/>
            </a:b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padding:10px;</a:t>
            </a:r>
            <a:br>
              <a:rPr sz="1800"/>
            </a:b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border:5px solid gray;</a:t>
            </a:r>
            <a:br>
              <a:rPr sz="1800"/>
            </a:b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margin:10px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800" spc="-1" strike="noStrike">
                <a:solidFill>
                  <a:srgbClr val="000000"/>
                </a:solidFill>
                <a:latin typeface="Lucida Sans Unicod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-6480" y="27468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5335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Sometimes we will want to apply some style to an area of the page, or a section of content, without wrapping that area or section of content in any particular HTML ta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o this end, we have two ‘empty’ tags built into HTML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-5335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he &lt;span&gt; tag is used to apply style to pieces of text, e.g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33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One word in this &lt;span style=“font-style: italic;”&gt; sentence &lt;/span&gt; is italic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-5335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he &lt;div&gt; tag is used to create divisions on a page, such that styles may be applied to entire ‘panels’, e.g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&lt;div style=“background-color: 005500”&gt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&lt;h2&gt; 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Hello World! &lt;/h2&gt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&lt;p&gt;  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It’s great to be here! &lt;/p&gt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IE" sz="1600" spc="-1" strike="noStrike">
                <a:solidFill>
                  <a:srgbClr val="000000"/>
                </a:solidFill>
                <a:latin typeface="Lucida Sans Unicode"/>
              </a:rPr>
              <a:t>&lt;/div&gt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-6480" y="27468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5:55:33Z</dcterms:created>
  <dc:creator>DKelly</dc:creator>
  <dc:description/>
  <dc:language>en-US</dc:language>
  <cp:lastModifiedBy>Brian Doyle</cp:lastModifiedBy>
  <dcterms:modified xsi:type="dcterms:W3CDTF">2013-03-06T17:58:59Z</dcterms:modified>
  <cp:revision>363</cp:revision>
  <dc:subject/>
  <dc:title>Introduction</dc:title>
</cp:coreProperties>
</file>